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9A8-C96C-48A0-9D2A-70047A38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EA3-17B1-4D08-9ADE-AE6AC918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C71-AF69-4D44-B628-9819C098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45C-695B-4B5F-AF08-7746D4FE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6581-71F7-4B06-9214-6E5D3AC4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36F5-70F8-4A79-8A10-2147BAC5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4F76-D635-4196-9E56-2E8C7A7E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5F43-643D-407B-B919-FF5003D6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CECE-24D8-4A9C-8111-02E7ADAC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7391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EB03-56D7-4349-8477-63069F68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B9F4-E3D1-4E2A-A7F0-4FAB7451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E56-95CF-483C-A794-00EA4818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9FFB-2A9E-4570-8212-6F223AF2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2094-0B13-4A3B-9B6A-95152B1A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9F15-0F67-4C60-AFB7-5F1636A3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BC4E-0A7F-4101-97F5-067543F3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84FE-FBBC-406F-ABF7-76902E67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75E-E1A9-4B7A-805D-C5FE9359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6DE3-C1E4-4498-9FE9-B4BCFE93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0C0-E2EA-4DF6-AC21-A1F95785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7391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16D-ACC6-4148-9EA9-60DFBE7D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C76-D32C-4B61-9063-5ACB3811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892-A3C0-4AF7-924C-1BE8E093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510-F6F1-4B45-B4A3-AC875F6D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01000" y="152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1AAD-E306-45BD-B09F-180142B2A1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15199" t="67152" r="60561" b="16429"/>
          <a:stretch/>
        </p:blipFill>
        <p:spPr>
          <a:xfrm>
            <a:off x="7848720" y="152280"/>
            <a:ext cx="1125360" cy="12193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8160" y="5210280"/>
            <a:ext cx="1485720" cy="164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336D-961A-4F7C-9F86-19E390BB3C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83571" t="60561" r="0" b="15199"/>
          <a:stretch/>
        </p:blipFill>
        <p:spPr>
          <a:xfrm>
            <a:off x="7594560" y="30240"/>
            <a:ext cx="1204920" cy="1112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15199" t="67133" r="60561" b="16439"/>
          <a:stretch/>
        </p:blipFill>
        <p:spPr>
          <a:xfrm>
            <a:off x="7620120" y="2224080"/>
            <a:ext cx="1112760" cy="12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50743" t="60561" r="32877" b="15199"/>
          <a:stretch/>
        </p:blipFill>
        <p:spPr>
          <a:xfrm>
            <a:off x="7620120" y="5638680"/>
            <a:ext cx="1201680" cy="1105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rcRect l="34305" t="60561" r="49267" b="15199"/>
          <a:stretch/>
        </p:blipFill>
        <p:spPr>
          <a:xfrm>
            <a:off x="7620120" y="3352680"/>
            <a:ext cx="1204920" cy="11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rcRect l="17866" t="60561" r="65705" b="15199"/>
          <a:stretch/>
        </p:blipFill>
        <p:spPr>
          <a:xfrm>
            <a:off x="7620120" y="1143000"/>
            <a:ext cx="1204920" cy="111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15199" t="1038" r="60561" b="82794"/>
          <a:stretch/>
        </p:blipFill>
        <p:spPr>
          <a:xfrm>
            <a:off x="7620120" y="4452840"/>
            <a:ext cx="1112760" cy="1185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2285640"/>
            <a:ext cx="73911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uk-UA" sz="36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600"/>
            </a:br>
            <a:r>
              <a:rPr b="0" lang="uk-UA" sz="3600" spc="-1" strike="noStrike">
                <a:solidFill>
                  <a:srgbClr val="330066"/>
                </a:solidFill>
                <a:latin typeface="Arial"/>
              </a:rPr>
              <a:t>ОРГАНІЗАЦІЯ РОЗПОДІЛЕНИХ ОБЧИСЛЕНЬ</a:t>
            </a:r>
            <a:br>
              <a:rPr sz="3600"/>
            </a:br>
            <a:r>
              <a:rPr b="0" lang="uk-UA" sz="3600" spc="-1" strike="noStrike">
                <a:solidFill>
                  <a:srgbClr val="330066"/>
                </a:solidFill>
                <a:latin typeface="Arial"/>
              </a:rPr>
              <a:t>ЗАСОБАМИ Web-CKM SAGE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ерка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5.10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2860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риворізький державний педагогічний універс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меріков Сергій Олексій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Рівні паралелізму в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івень комунікаційної бібліоте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івень бібліотек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GE (pyrex, pyth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івень користувача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sage, lpython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84400">
            <a:off x="4190760" y="3276360"/>
            <a:ext cx="457200" cy="1523880"/>
          </a:xfrm>
          <a:prstGeom prst="downArrow">
            <a:avLst>
              <a:gd name="adj1" fmla="val 50000"/>
              <a:gd name="adj2" fmla="val 8852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9983600">
            <a:off x="6400440" y="3276360"/>
            <a:ext cx="457200" cy="1523880"/>
          </a:xfrm>
          <a:prstGeom prst="downArrow">
            <a:avLst>
              <a:gd name="adj1" fmla="val 50000"/>
              <a:gd name="adj2" fmla="val 8332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800600"/>
            <a:ext cx="28195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озподілені обчисл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4800600"/>
            <a:ext cx="28195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аралельні обчисл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Приклад: паралельне розв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’</a:t>
            </a: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язання рівняння Лаплас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429000" y="1411200"/>
            <a:ext cx="2149560" cy="874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5800" y="220968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дискретизаці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52680" y="2754360"/>
            <a:ext cx="6037200" cy="82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65040" y="3657600"/>
            <a:ext cx="8413920" cy="809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3520" y="457200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тераційна процедур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49200" y="5029200"/>
            <a:ext cx="8413920" cy="831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65040" y="0"/>
            <a:ext cx="8412120" cy="5497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7360" y="1297080"/>
            <a:ext cx="8369280" cy="3736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бчислювальний експеримен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712880"/>
          <a:ext cx="8077320" cy="3560760"/>
        </p:xfrm>
        <a:graphic>
          <a:graphicData uri="http://schemas.openxmlformats.org/drawingml/2006/table">
            <a:tbl>
              <a:tblPr/>
              <a:tblGrid>
                <a:gridCol w="2286000"/>
                <a:gridCol w="2667240"/>
                <a:gridCol w="312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мірність</a:t>
                      </a:r>
                      <a:br>
                        <a:rPr sz="1800"/>
                      </a:b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ри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ідовні</a:t>
                      </a:r>
                      <a:br>
                        <a:rPr sz="1800"/>
                      </a:b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числення,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лельні обчислення</a:t>
                      </a:r>
                      <a:br>
                        <a:rPr sz="1800"/>
                      </a:b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обами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I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х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х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х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х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х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х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х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х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,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Загальна схема роботи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tributed 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371600"/>
            <a:ext cx="9144000" cy="5581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-66600" y="-96840"/>
            <a:ext cx="9277200" cy="695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0" t="8771" r="0" b="15005"/>
          <a:stretch/>
        </p:blipFill>
        <p:spPr>
          <a:xfrm>
            <a:off x="3200400" y="3156120"/>
            <a:ext cx="5937120" cy="3701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0" t="8299" r="0" b="9577"/>
          <a:stretch/>
        </p:blipFill>
        <p:spPr>
          <a:xfrm>
            <a:off x="0" y="0"/>
            <a:ext cx="5937120" cy="3992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сновні етапи роботи з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tributed SAGE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 (1-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Завантаження серверу DS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sage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: d=dsage.start_all(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Обчислення за допомогою стандартних функці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sage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: res = d('factor(2^325-1)'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sage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: 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31 * 601 * 1801 * 7151 * 8191 * 51879585551 * 145295143558111 * 461367939193695361042959053201412253226033973964404909360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sage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: print "Задачу виконано за", res.cpu_time, "секунд"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Задачу виконано за 8.37275099754 секун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сновні етапи роботи з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tributed SAGE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бчислення за допомогою класів, створених користува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sag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: class DistributedFunctionTest(DistributedFuncti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def __init__(self, dsage, n,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                name='DistributedTestFunction'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DistributedFunction.__init__(self, ds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self.n =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self.name =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self.resul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self.results =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self.jobs = ["print %s"%i for i in range(1,n+1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def process_result(self, jo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self.result += job.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sag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: s=DistributedFunctionTest(d,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sag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: s.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['print 1', 'print 2', 'print 3', 'print 4', 'print 5', 'print 6', 'print 7', 'print 8', 'print 9', 'print 10'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sag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: s.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821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ктуальність дослідженн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2209680"/>
            <a:ext cx="152280" cy="4191120"/>
          </a:xfrm>
          <a:prstGeom prst="rect">
            <a:avLst/>
          </a:prstGeom>
          <a:solidFill>
            <a:srgbClr val="33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1359720" y="3264480"/>
            <a:ext cx="1852560" cy="381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330066"/>
              </a:gs>
              <a:gs pos="100000">
                <a:srgbClr val="fefefe"/>
              </a:gs>
            </a:gsLst>
            <a:lin ang="16200000"/>
          </a:gradFill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рганізація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ділених обчислень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собами СК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671800">
            <a:off x="1447920" y="2133720"/>
            <a:ext cx="6019560" cy="152280"/>
          </a:xfrm>
          <a:prstGeom prst="rect">
            <a:avLst/>
          </a:prstGeom>
          <a:solidFill>
            <a:srgbClr val="33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4152240" y="4457520"/>
            <a:ext cx="533520" cy="350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0066"/>
          </a:solidFill>
          <a:ln w="3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1752480"/>
            <a:ext cx="380880" cy="381240"/>
          </a:xfrm>
          <a:prstGeom prst="ellipse">
            <a:avLst/>
          </a:prstGeom>
          <a:solidFill>
            <a:srgbClr val="33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80880" y="2971800"/>
            <a:ext cx="1447920" cy="129528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828440" y="2971440"/>
            <a:ext cx="685800" cy="152388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1828800" y="2971440"/>
            <a:ext cx="2286000" cy="121932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029200" y="1523520"/>
            <a:ext cx="1981080" cy="114300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934320" y="1523520"/>
            <a:ext cx="1828800" cy="114300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933960" y="1523520"/>
            <a:ext cx="609480" cy="129564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981400" y="1714320"/>
            <a:ext cx="1981440" cy="388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330066"/>
              </a:gs>
              <a:gs pos="100000">
                <a:srgbClr val="fefefe"/>
              </a:gs>
            </a:gsLst>
            <a:lin ang="16200000"/>
          </a:gradFill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радиційна модель організації розподілених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бчисл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Обчислювальний експеримент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: DistributedFacto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23880" y="1444680"/>
            <a:ext cx="7620120" cy="5413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Обчислювальний експеримент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: DistributedPOVRa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06880" y="2408400"/>
            <a:ext cx="5937120" cy="4449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4359240" cy="3786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Висновк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. Аналіз можливостей різних розподілених систем показує, що вони спрямовані або на розв’язання вузькоспеціалізованих задач, або орієнтовані на програмуючого користувача. Застосування Web-СКМ SAGE та її модуля для розподілених обчислень дозволяє будувати ефективні розподілені системи різного призначення користувачам, дозволяючи їм зосередитись на реалізації обчислювального алгоритму замість деталей реалізації процесу розподілу завдан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Виснов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2. Застосування DSAGE дозволяє виконати ефективні обчислення як паралельно (в межах багатопроцесорної системи), так і розподілено. Інтерпретована природа коду SAGE дозволяє в процесі обчислень брати участь серверам, клієнтам та виконавцям, що працюють на різних програмно-апаратних платформах без будь-якої модифікації програмного к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Напрямки подальшої робот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1. Моделювання роботи системи BOINC засобами DS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2. Застосування алгебраїчних методів в криптоаналізі блокових шифрі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3. Організація розподілених матричних обчислен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2381400" cy="619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95600" y="552600"/>
            <a:ext cx="5752800" cy="5752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821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ктуальність дослідженн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2209680"/>
            <a:ext cx="152280" cy="4191120"/>
          </a:xfrm>
          <a:prstGeom prst="rect">
            <a:avLst/>
          </a:prstGeom>
          <a:solidFill>
            <a:srgbClr val="33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1333440" y="2171160"/>
            <a:ext cx="1676520" cy="403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330066"/>
              </a:gs>
              <a:gs pos="100000">
                <a:srgbClr val="fefefe"/>
              </a:gs>
            </a:gsLst>
            <a:lin ang="16200000"/>
          </a:gradFill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рганізація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ділених обчислень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собам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К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133720"/>
            <a:ext cx="6019560" cy="152280"/>
          </a:xfrm>
          <a:prstGeom prst="rect">
            <a:avLst/>
          </a:prstGeom>
          <a:solidFill>
            <a:srgbClr val="33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152240" y="4457520"/>
            <a:ext cx="533520" cy="350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0066"/>
          </a:solidFill>
          <a:ln w="3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1752480"/>
            <a:ext cx="380880" cy="381240"/>
          </a:xfrm>
          <a:prstGeom prst="ellipse">
            <a:avLst/>
          </a:prstGeom>
          <a:solidFill>
            <a:srgbClr val="33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0880" y="2133720"/>
            <a:ext cx="1447920" cy="129528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828440" y="2133720"/>
            <a:ext cx="685800" cy="137160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828800" y="2133720"/>
            <a:ext cx="2286000" cy="121896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952880" y="2209320"/>
            <a:ext cx="1981440" cy="114300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858000" y="2209320"/>
            <a:ext cx="1828800" cy="114300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857640" y="2209320"/>
            <a:ext cx="609480" cy="129564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5981400" y="2171160"/>
            <a:ext cx="1676520" cy="403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330066"/>
              </a:gs>
              <a:gs pos="100000">
                <a:srgbClr val="fefefe"/>
              </a:gs>
            </a:gsLst>
            <a:lin ang="16200000"/>
          </a:gradFill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ові можливості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ля непрограмуючих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чів-математи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60561" r="0" b="15199"/>
          <a:stretch/>
        </p:blipFill>
        <p:spPr>
          <a:xfrm>
            <a:off x="1752480" y="5943600"/>
            <a:ext cx="5257800" cy="797040"/>
          </a:xfrm>
          <a:prstGeom prst="rect">
            <a:avLst/>
          </a:prstGeom>
          <a:ln w="38160">
            <a:solidFill>
              <a:srgbClr val="330066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ета дослідження 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тичний розгляд засобів Web-СКМ SAGE для організації розподілених обчис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б’єктом дослідженн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 технологія розподілених обчис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едмет дослідження: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тосуванн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GE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для реалізації розподілених обчис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330066"/>
                </a:solidFill>
                <a:latin typeface="Arial"/>
              </a:rPr>
              <a:t>Гіпотеза дослідженн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3200400"/>
            <a:ext cx="3200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 Rounded MT Bold"/>
              </a:rPr>
              <a:t>Грід + СК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5053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05720" y="51055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Rounded MT Bold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00600" y="5715000"/>
            <a:ext cx="4191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автоматизації процесу розрахунку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розподілу завдань та збирання статистик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2895480"/>
            <a:ext cx="1066680" cy="838440"/>
          </a:xfrm>
          <a:prstGeom prst="rect">
            <a:avLst/>
          </a:prstGeom>
          <a:solidFill>
            <a:srgbClr val="6699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2895480"/>
            <a:ext cx="1067040" cy="838440"/>
          </a:xfrm>
          <a:prstGeom prst="rect">
            <a:avLst/>
          </a:prstGeom>
          <a:solidFill>
            <a:srgbClr val="6699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34120" y="3048120"/>
            <a:ext cx="1523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метакомп'ютерні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дослідження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162920" y="3048120"/>
            <a:ext cx="1295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непрограмуючі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математик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-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системи</a:t>
            </a:r>
            <a:br>
              <a:rPr sz="3900"/>
            </a:b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комп’ютерної математ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абезпечують проведення інтерактивних обчислень у середовищі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-брауз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е вимагають встановлення СКМ на клієнтській маши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меншують витрати на адмініструва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0066"/>
                </a:solidFill>
                <a:latin typeface="Arial"/>
              </a:rPr>
              <a:t>Matlab Web Server, webMathematica, wxMaxim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0066"/>
                </a:solidFill>
                <a:latin typeface="Arial"/>
              </a:rPr>
              <a:t>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3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61" dur="3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2" dur="3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SAG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(</a:t>
            </a:r>
            <a:r>
              <a:rPr b="1" i="1" lang="en-GB" sz="3500" spc="-1" strike="noStrike">
                <a:solidFill>
                  <a:srgbClr val="330066"/>
                </a:solidFill>
                <a:latin typeface="Arial"/>
              </a:rPr>
              <a:t>Software</a:t>
            </a:r>
            <a:r>
              <a:rPr b="1" i="1" lang="uk-UA" sz="3500" spc="-1" strike="noStrike">
                <a:solidFill>
                  <a:srgbClr val="330066"/>
                </a:solidFill>
                <a:latin typeface="Arial"/>
              </a:rPr>
              <a:t> for Algebra and Geometry Experimentation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2158920"/>
            <a:ext cx="9067680" cy="2933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47920" y="51814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Замість того, щоб кожен раз винаходити нове колесо, чи не краще врешті-решт зібрати автомобіль?” (Вільям Штейн, 2006 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Домашня сторінка користувача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4480" y="1676520"/>
            <a:ext cx="8915400" cy="508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сновні характеристики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безкоштовність та відкритість систе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невимогливість до апаратної складової обчислювальної систе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індиферентність до використовуваного браузер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підтримка інтерфейсів до комерційних систем комп’ютерної математики, таких як – Maple, Magma, Mathematica і Matla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подання математичних виразів природною мовою не вимагає встановлення спеціального програмного забезпечення – достатньо дозавантажити математичні шриф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наявність потужного інструментарію для побудови статичних та динамічних графічних зображень у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(на площині та у просторі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можливість публікації робочих листів (worksheets) записника (notebook) у мережі Intern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підтримка технології Wik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c</cp:lastModifiedBy>
  <dcterms:modified xsi:type="dcterms:W3CDTF">2009-10-14T19:16:02Z</dcterms:modified>
  <cp:revision>1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